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6AE-9115-45E9-B64D-71505B0F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0FD-405C-4564-9737-24A1BD24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76B-7505-4A2D-A091-4BE77F97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351-91CB-40C8-9DDC-25AFB3E8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4676-2762-4AA3-BEAF-9D5D5FF4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95AB-61A8-426B-81EA-ED734905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C5C9-58B1-40AF-9E3D-8D026C5F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1F60-4551-46A5-B90A-2903B70C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0CF6-151F-4360-B865-412D2144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8FA0-0CED-4A47-9E50-5BFCFA43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0E83-4A6D-42CA-B145-71F70011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516-5913-4171-BE84-F28D918B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02F7-3470-4AEE-8DF2-AD798EB8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588B-19B5-4BE5-ACD9-DC781773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E1A6-1664-4400-BAD1-1AF97AE4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0279-DFCB-4701-ADBD-B3B367B7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62F5-FCF2-4A7D-B6B1-D1A19CFF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559-EA7D-4F3A-AE84-AD5715BA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F52-8FCB-418D-94D3-419BA252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9F8-80B4-4E0C-BEA4-D67B94A2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6FC-2DB7-45F0-8A50-18331DC2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19C-5632-4B16-A218-7BB382DA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E01-0360-46F5-858B-A6A75682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FCF-E30A-43AC-A320-623CB1D6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050A-4F4A-470B-BCA3-845126A4E49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4CF8-7741-49FC-876A-082D7288679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6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tomic Structure and Chemical Bo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riodic Table and Energy Leve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umber of electrons increases by one as you go across a peri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umber of energy levels increases by one as you go down a colum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ight is Great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Noble Ga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noble gases either have all of their energy levels filled to its maximum or it has eight electrons in its outermost energy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ick Check-u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w many energy levels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alciu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trontiu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oron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w many electrons in outermost level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imon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erylliu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Krypton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riodic Famil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oup 18- Noble Gass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o not combine with other eleme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ome react slightly, but it is ra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oup 17- Haloge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Very reactive- only needs one electron to be stab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lourine is the most active, outermost shell is closest to the nucleu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oup 1- Alkali Met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ave one electron in outermost shel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Very reactive with haloge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 your Science Journ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and answer the questions in the “Applying Science” article on page 16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ctron Dot Diagra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rite Chemical Symbo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lace first dot on top of symbol and work right until all four sides have a dot or you are out of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nly use electrons in the outermost energy level. Wh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rting back at the top fill in the remaining spaces until you are out of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mical Bo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force that hold atoms toget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toms bond in manner which makes both atoms sta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.e: both atoms outermost shells will be arranged like the noble gasses (8 Electrons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onic Bo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n- result of an atom loosing or gaining an electron and changing its overall charg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nic bond is an attraction which holds ions togeth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und- pure substance containing two or more elements that are chemically bond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Magnesium (+2 charge) meets with chlorine (-1 charge) will they bond? If so, How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etallic bond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 when metal atoms share their pooled electr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Keeps metals from breaking and makes them mallea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outermost electrons travel from one atom to another enabling a curr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ldab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mburger fol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mburger fol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ut along the sea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bel top half “ Ionic Bonds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bel the Bottom Half “Covalent Bonds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valent Bond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chemical bond that forms between non-metal atoms when they share electr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 a neutral partic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lecule- neutral particle formed when electrons are shar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atomic Molec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ydrog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xyg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itrog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luor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lor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rom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d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statin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e and Triple Bo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times an atom shares more than one electron with another at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ok at figure 17 on page 174 for double bon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en two pairs of electrons make one covalent bond it is called a double bon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e and Triple Bo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gure 17 also shows a triple bond between 2 Nitrogen atom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occurs when three pairs of electrons are shared covalen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ar Molec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all Dem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 different sizes, one is positive and one is negativ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lar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atoms of different sizes bond, they form polar molecul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se molecules do not share the electrons evenl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larger atom keeps the electrons more than the smaller ato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ar Molec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good example of a polar molecule is wa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so, hydrochloric acid and sodium chlori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raw these three molecules and determine the pol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mical Symbo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You all have been asking how elements get their symbol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ost elements are symbolized by their first lett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xamples: Hydrogen (H) and Carbon (C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thers are symbolized for their name in another languag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otassium (K) – Latin for Kalium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ron (Fe) – Greek for Ferrou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hemical symbols are understood worldwid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mical Symbol R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One Letter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ust be capitaliz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wo Letter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rst letter is capital and the second is lowerca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hree Letter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rst letter is capitalized and the remaining are lowerca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914400" y="1219320"/>
            <a:ext cx="495288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71600" y="1676520"/>
            <a:ext cx="3886200" cy="21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 Black"/>
              </a:rPr>
              <a:t>2 H</a:t>
            </a:r>
            <a:r>
              <a:rPr b="0" lang="en-US" sz="120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981080" y="33523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581280" y="3352320"/>
            <a:ext cx="0" cy="2133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648320" y="3657240"/>
            <a:ext cx="0" cy="15238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4495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Superscrip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5410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Black"/>
              </a:rPr>
              <a:t>Chemical Symbo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11480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 Black"/>
              </a:rPr>
              <a:t>Subscrip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Chemical Formula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ydrochloric Ac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dium Chlor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dium Hydrox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lfuric Ac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ilver Nitrat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ron Ox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at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ydrogen Perox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mmon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itric Ac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cetic Ac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gnesium Chlor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y Vocabul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lectron clou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lectron dot diagra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emical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nic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u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etallic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valent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olecu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lar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emical Formul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tomic 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our desk appears to be solid, but it is mostly empty spac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ectron cloud- the area of open space around an atom’s nucleus that contains electr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ath of an electron is not well mapped. It is actually kind of rand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ctron clou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ery similar to the blades of a ceiling f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appears that there is a circle rotating when it is a few blades moving at such a fast rate that it creates that imag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ctron arrang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though all the electrons are in the electron cloud, some electrons are closer to the nucleus than oth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nergy Levels- different areas for an electron in an at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ok at figure 3 on page 163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umber of Electr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ach energy level can only hold a certain number of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 One- can hold either 1 or 2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 Two- can hold up to 8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 Three- can hold up to 18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 Four- can hold up to 32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ick La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t a magnet and 4 paper clip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se the magnet to pick up one paper clip—record observ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se the magnet to pick up the rest of the paper clips one at a time—record observ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ne at a time remove the paper clips from the magnet—record observ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ich paper clip was the easiest to remove? Wh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ergy Leve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ectrons in energy level one have the least amount of energy and are less likely to leave the at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ectrons in energy level 4 have the most energy and are more likely to leave the at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2:21:38Z</dcterms:created>
  <dc:creator>Adam's Homepage</dc:creator>
  <dc:description/>
  <dc:language>en-US</dc:language>
  <cp:lastModifiedBy>Adam's Homepage</cp:lastModifiedBy>
  <dcterms:modified xsi:type="dcterms:W3CDTF">2008-10-30T13:48:25Z</dcterms:modified>
  <cp:revision>5</cp:revision>
  <dc:subject/>
  <dc:title>Chapter 6</dc:title>
</cp:coreProperties>
</file>